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E3E-C50E-4E54-830A-13BB93C6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CE1-C2C4-4845-AFCA-2CFCE0EC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F7D-D838-44CB-98B3-EB14F058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314-2DD4-4DD0-A4E5-2E9421EE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728-193B-4C03-9244-C0261DD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939-7E3E-4213-AB26-20155B7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089-8186-47B0-8EB8-11772E6C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589-25B7-4868-8C15-A54FBBD5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44E-C2D0-4FF9-B982-2DA9ED8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694-54C6-4E04-8727-B9D54E1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7D7-83A9-4E4C-9DB5-CA5E0961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8FB-D5D8-477F-881B-A009012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ABF-411E-49F4-80D7-A115072E9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54936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бо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лезные исключени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3500280"/>
            <a:ext cx="52200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риа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жшкольного проек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русскому язык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115920"/>
            <a:ext cx="7067880" cy="922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Карта проек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1150920"/>
          <a:ext cx="8229600" cy="5707080"/>
        </p:xfrm>
        <a:graphic>
          <a:graphicData uri="http://schemas.openxmlformats.org/drawingml/2006/table">
            <a:tbl>
              <a:tblPr/>
              <a:tblGrid>
                <a:gridCol w="3024360"/>
                <a:gridCol w="520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з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Исключительно полезные исклю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час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чащиеся 10-11 кл. МШ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роки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Январь – декабрь 20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п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актико-ориент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нопредме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Групп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Информационная кампания (размещение информации о проекте на странице МШД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Сбор и систематизация материала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Оформление сборника «Полезные исклю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Презентация и защита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вершенствование ведущих языковых компетенций учащихся путем  систематизации материала по теме проекта и оформления сборника  «Полезные исключени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сновополагающ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Какие исключения существуют в русской орфограф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Как и в связи с чем они появились в язык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жно ли создать универсальное пособие исключе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Существуют ли алгоритмы для запоминания исключе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вый продукт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борник «Полезные исклю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зентация в Power Poi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413000"/>
            <a:ext cx="33908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И-Ы после Ц в корне сл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413000"/>
            <a:ext cx="33912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уть, 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н, 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637000"/>
            <a:ext cx="7488000" cy="228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исание ЦИ в корне – историческое явление. Слова с таким буквосочетанием являются обычно иноязычными. После Ц пишется И в соответствии с мягким или полумягким произношением тех звуков, которые передаются в русском языке буквой Ц, например: цивилизация из лат. сivilis, цитата – лат. citatum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усском же языке буква Ц передает твердый звук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ле которого может произноситься только [ы], но не [и]. Поскольку заимствованных слов с ЦИ в корне подавляющее большинство, то русские слова с ЦЫ в корне (цыган, на цыпочках, цыпленок, цыкнуть, цыц) попали в исключ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усской орфографи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лючениями стали собственно русски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229360"/>
            <a:ext cx="5688000" cy="1419120"/>
          </a:xfrm>
          <a:custGeom>
            <a:avLst/>
            <a:gdLst>
              <a:gd name="textAreaLeft" fmla="*/ 167040 w 5688000"/>
              <a:gd name="textAreaRight" fmla="*/ 5520960 w 5688000"/>
              <a:gd name="textAreaTop" fmla="*/ 167040 h 1419120"/>
              <a:gd name="textAreaBottom" fmla="*/ 1252080 h 1419120"/>
            </a:gdLst>
            <a:ahLst/>
            <a:rect l="textAreaLeft" t="textAreaTop" r="textAreaRight" b="textAreaBottom"/>
            <a:pathLst>
              <a:path w="865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959" y="21600"/>
                </a:lnTo>
                <a:arcTo wR="3600" hR="3600" stAng="10800000" swAng="5400000"/>
                <a:lnTo>
                  <a:pt x="8655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Запомин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ыган встал на цыпочки и цыкнул на цы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413000"/>
            <a:ext cx="3390840" cy="201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О-Ё в окончаниях существительных после шипящ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860640"/>
            <a:ext cx="7416720" cy="2593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ы Орфографической комиссии, готовившие Свод, обратили внимание на то, что форм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ьичё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Лениным), как правил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лась с 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частности, такое написание встретилось в одном из писем Н. К. Крупской). Чтобы сохранить орфографическую неприкосновенность В. И. Ленина, было принято "устное" исключение: писать, например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тром Ильич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(Чайковским), Михаилом Ильич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(Роммом), но Владимиром Ильич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(Ленины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1916280"/>
            <a:ext cx="316872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Негласное» 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ом Ильич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Лени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1640" y="1844640"/>
            <a:ext cx="1513080" cy="1513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13000"/>
            <a:ext cx="339084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сутствие мягкого з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шипящих в нареч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7240" y="1413000"/>
            <a:ext cx="170496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ж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муж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втерпеж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068640"/>
            <a:ext cx="6119640" cy="1923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 наречия произошли от существительны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, терпеж, му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торые относятся к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ому склонению и пишутся без мягкого зн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77080" y="2781360"/>
            <a:ext cx="1612800" cy="23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5229360"/>
            <a:ext cx="604836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то интерес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ч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еж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овано от предлог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уществительного второго склон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стар.) – «крюк, столб», однако это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ало исключением и пишется с мягким зн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773360"/>
            <a:ext cx="33908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И,У,А  после шипя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773360"/>
            <a:ext cx="33908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, ПАРА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, БРО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213000"/>
            <a:ext cx="7488000" cy="2837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три слова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юри, брошюра, парашют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я транслитерационному принципу, пишутся через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написании этих слов отражено их французское произношение и написание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юри – jury, брошюра – brochure, парашют – parachut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Если бы эти слова были еще в древнерусском языке, то их написание целиком и полностью отражало бы традиционный принцип русской орфографии, так ка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, 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ыли мягкими. Но эти слова пришли к нам в XIX веке, когда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, 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уже отвердели, а потому стали исключениями из прави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341360"/>
            <a:ext cx="33908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Н и НН в суффиксах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1341360"/>
            <a:ext cx="3390840" cy="1098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ЕКЛ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, ОЛОВ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, ДЕРЕВ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ТР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637000"/>
            <a:ext cx="6481800" cy="4018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в древний период все отыменные прилагательные образовывались с помощью суффиксов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ан- – -ян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о при этом получали различное ударение. И уже от этих суффиксальных прилагательных могли возникнуть новые формы с дополнительным суффиксом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ьн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 По этому правилу слова писались так: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дерев-ян-ьн-ный, олов-ян-ьн-ный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Но в связи с исчезновением сверхкраткого звука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ударение перешло на предшествующий слог и здесь закрепилось, возникли новые слова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деревянный, оловянный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прилагательное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еклянный,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в старое ударение на суффиксе, одновременно с этим оставило и «усиленное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 – и попало в разряд исключений. Это слово, даже получая суффикс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ьн-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никогда не переносило ударение на корень, потому что и корень у него состоял из сверхкраткого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ъ: стькльнъ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– все слово состояло из одних сверхкратких гласных. После утраты слабых сверхкратких слово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ькльнъ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дало форму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клен,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торая настолько сложна для произношения, что не сохранилась в русском я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слова-исключения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тре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прозрачно. В древнерусском языке оно относилось к отглагольным прилагательным, образованным от глагола несовершенного ви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трить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и писалось с одним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,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как только добавлялась приставка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безветренный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слово писалось с двумя буквами –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Сегодня слово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ветре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перешло в прилагательные, однако сохранило свое старое напис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141720"/>
            <a:ext cx="2160720" cy="2592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Запомин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кно стекля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амы деревяН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учки олов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341360"/>
            <a:ext cx="33908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Ь на конце глаголов повелительного на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1557360"/>
            <a:ext cx="3390840" cy="611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Я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2637000"/>
            <a:ext cx="6481800" cy="3991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овременном русском языке во втором лице единственного числа формы повелительного наклонения могут быть трех вид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с конечным мягким согласным: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будь, тронь, брос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с ударным конечным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и: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ходи, пои, кро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 конечным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после гласного: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думай, знай, читай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им образом, формы повелительного наклонения образуются от чистой основы настоящего и будущего простого времени с чередованием твердого согласного с мягким и от чистой основы плюс суффикс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и-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форма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ляг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стала исключением благодаря своей твердой согласной на конце. В этом случае звуковая материя оказывает сопротивление графической форме. Поставленный мягкий знак вызывает при чтении этой формы восприятие сочетания знаков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г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 Между тем мягкие заднеязычные, как правило, не могут стоять в конце слов: в норме они так не употребляются. Иными словами, сюда «вмешивается» и произносительная норма русского языка – и слово произносится в соответствии с этой нор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404640"/>
            <a:ext cx="6265800" cy="7923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13000"/>
            <a:ext cx="838332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ылинский К.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правочник по орфографии и пунктуации для работников печати / К.И. Былинский, Н.Н. Никольский. М.: Искусство, 195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ник  Г.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креты орфографии / Г.Г. Граник, С.М. Бондаренко, Л.А. Концевая. М.: Просвещение, 199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  В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сторический комментарий к занятиям по русскому языку в средней школе. Пособие для учителя / В.В. Иванов, З.А. Потиха. М.: Просвещение, 198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 В.Ф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временный русский язык. Графика и орфография / В.Ф. Иванова. М.: Просвещение, 196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  В.Ф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нципы русской орфографии / В.Ф. Иванова. Л.: Изд. университета, 197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лесов  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теклянный, оловянный, деревянный / В.Колесов // Русская речь. 1974. № 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узьмина  С.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ория русской орфографии / С.М. Кузьмина. М.: Наука, 19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ов  М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нимательная орфография / М.В. Панов. М.: Просвещение, 198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нина  И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учение трудных слов с применением этимологического анализа / И.В. Пронина. М.: Просвещение, 19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озенталь  Д.Э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опросы русского правописания. Практическое руководство / Д.Э. Розенталь. МГУ, 196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Шанский  Н.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раткий этимологический словарь русского языка / Н.М. Шанский, В.В. Иванов, Т.В. Шанская. М.: Просвещение, 197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Щерба  Л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ория русского письма / Л.В. Щерба. Л.: Наука, 19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нтернет-ресур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us.1september.ru/articlef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uicbs.ru/index.php?op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omnupi.ru/index/russk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8:00:59Z</dcterms:created>
  <dc:creator>Admin</dc:creator>
  <dc:description/>
  <dc:language>en-US</dc:language>
  <cp:lastModifiedBy>Admin</cp:lastModifiedBy>
  <dcterms:modified xsi:type="dcterms:W3CDTF">2013-02-01T08:12:14Z</dcterms:modified>
  <cp:revision>61</cp:revision>
  <dc:subject/>
  <dc:title>Слайд 1</dc:title>
</cp:coreProperties>
</file>